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395-C5BC-42F3-9D10-EECDE50E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A85-AEED-4DDA-BED2-70E71811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FF5-CC32-499E-9EB0-72FC5AE0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489-11C7-4D20-B58C-76186880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688-B441-4B19-A0D6-EF22E179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19B-7B00-48A2-BAF3-3BC82706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395-8FAE-48B7-A63C-B4B5088E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7FC-EA26-444F-A4CD-608B469E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1D4-8E80-4F6C-9A32-21EE1921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65F-5049-45DB-9B4D-B89A163B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BEB-3596-4607-84AF-A7DCC881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4A8-6FA7-4E83-9969-543C3833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F3C-70B3-46E6-BB58-E32C86EEABBF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¿Cómo entender la “Programación de computadoras” en el marco del PRONIE MEP-F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214360"/>
            <a:ext cx="822960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Actividad que utiliza las computadoras para plantear y resolver problemas o lograr objetivos de interés a través de procesos de razonamiento, diseño y organización de acciones posible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33:43Z</dcterms:created>
  <dc:creator>andres.rodriguez</dc:creator>
  <dc:description/>
  <dc:language>en-US</dc:language>
  <cp:lastModifiedBy>Andres.Rodriguez</cp:lastModifiedBy>
  <dcterms:modified xsi:type="dcterms:W3CDTF">2010-03-03T22:34:30Z</dcterms:modified>
  <cp:revision>174</cp:revision>
  <dc:subject/>
  <dc:title>Didáctica de la Programación bajo el contexto PRONIE MEP-FOD</dc:title>
</cp:coreProperties>
</file>